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2AD-4C3C-45B0-B0F0-7AAB4A55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553-3DEE-4FBA-8215-235583C9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23E1-88F6-46C3-8766-4663AC86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FBA6-3BA8-43DC-851D-86C76C54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D1A4-659A-4194-9CAB-2934EB1A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FACA-B0F6-4F93-83C8-50C101D2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679-EA62-4F91-B505-7E58CB68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F6B-31D9-40E3-9602-62B6E1B6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CD6-650B-4425-AECA-3C9C41E0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7971-492F-4FA0-8413-751EA864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F61-5DB3-486E-8BE5-CF84B8F5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61A-8354-4E43-A301-182BB87A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5B37-8AD5-4167-B5E2-ACC64E06ECA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73 Keď sa v sláve zjav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Spasite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o svoj ľud príde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o svoj ľud príde Pán, viera nájde žiadúci cesty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o svoj ľud príde Pán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v sláve zjav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ra nájde žiaduci cesty cieľ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rť a hrob raz navždy u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atí moc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na zem sa vráti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o svoj ľud príde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o svoj ľud príde Pán, viera nájde žiadúci cesty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o svoj ľud príde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v sláve zjav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Jedi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rý za nás niesol krí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vin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 z našich ús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de zn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na zem sa vráti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o svoj ľud príde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o svoj ľud príde Pán, viera nájde žiadúci cesty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o svoj ľud príde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v sláve zjav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Pán a Kr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nás lásk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smiernou milov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er a rado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vládne na ze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z neba sa vráti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DUMAS Ing. Dušan Bielik</cp:lastModifiedBy>
  <dcterms:modified xsi:type="dcterms:W3CDTF">2025-01-06T18:33:40Z</dcterms:modified>
  <cp:revision>7</cp:revision>
  <dc:subject/>
  <dc:title>Bez nadpisu</dc:title>
</cp:coreProperties>
</file>